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2.png" ContentType="image/png"/>
  <Override PartName="/ppt/media/image30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5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32.wmf" ContentType="image/x-wmf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1.jpeg" ContentType="image/jpeg"/>
  <Override PartName="/ppt/media/image2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F5F4-8AE5-4B99-86C2-F8053903F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AD47-C348-489A-AF4A-864902D41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4F34-5BF2-493C-987D-1AFC7960B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0D63-A045-4A34-8479-A8D4FEA3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CB77-466B-423B-B551-E0C73550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3A83-B2B5-40FC-9A45-7FDDBA26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8232-F415-44B0-96C9-003702E2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3CE9-2949-4E84-9BDC-66215A92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265B-3342-4E23-B22C-26CC7E32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6465-9B41-4B17-B77D-9C5DC7E0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FEAE-DE89-4C26-9253-172347B1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B097-2C56-4871-B191-5B469C11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243A-4C7D-4FAF-9674-89F95C42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490F-4C04-4276-A80C-56FA7C62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386F-8B68-4777-BB36-012A627A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6EC9-B6C8-4D33-8F46-C0A52666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FE55-56FC-4D17-8443-C1F82FA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6787-03FB-4805-8E66-60C4346A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A14F-9603-4C1D-A1C7-562A4075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6C3A-62C3-4152-AC76-DF81A09D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69C6-26FC-4B73-9D99-D13698B8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84F0-59F0-4DEA-AE9E-C9D7BE67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5BBC-B3A9-4B6A-B5D5-1884460E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54DF-76D3-4C4D-8D6A-588DD89A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4722-F2F8-40F6-B2AC-AE41A698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0C99-1E61-41A4-A22B-38754DB1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1F7A-B766-424E-AA83-C8FB638A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98D3-086A-498E-9D59-9C4BDC546C35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162E-3FD8-4A34-8D0B-83D263644F4B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5F02-FD9F-474E-A254-822A31A834CD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F102-BFC8-43FC-AC0C-87B277122FC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TRIKS_WP3_-_NCBO%20and%20CDISC_Landscape_-_draft_130115%20(1).xlsx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sg.doc.ic.ac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image" Target="../media/image19.png"/><Relationship Id="rId16" Type="http://schemas.openxmlformats.org/officeDocument/2006/relationships/image" Target="../media/image20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814400"/>
            <a:ext cx="78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uropean Translational Research Information and KM Services</a:t>
            </a:r>
            <a:br>
              <a:rPr sz="4400"/>
            </a:b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(eTRIKS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Prof Yike Guo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98989"/>
                </a:solidFill>
                <a:latin typeface="Calibri"/>
              </a:rPr>
              <a:t>Department of Computing Imperial College London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7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C807-474E-4A85-AED6-918DBF7C8CD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eTRIKS"/>
          <p:cNvPicPr/>
          <p:nvPr/>
        </p:nvPicPr>
        <p:blipFill>
          <a:blip r:embed="rId1"/>
          <a:stretch/>
        </p:blipFill>
        <p:spPr>
          <a:xfrm>
            <a:off x="3019320" y="236520"/>
            <a:ext cx="3000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rcRect l="1900" t="4267" r="-1896" b="0"/>
          <a:stretch/>
        </p:blipFill>
        <p:spPr>
          <a:xfrm>
            <a:off x="395280" y="2571840"/>
            <a:ext cx="3790800" cy="3273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9640" y="173808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U-BIOPRED (Unbiased BIOmarkers in PREDiction of respiratory disease outcomes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Use cas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4" name="Espace réservé du numéro de diapositive 1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873A-52D2-4BC1-B850-C13681A43031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pied de page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European Lung Foundation"/>
          <p:cNvPicPr/>
          <p:nvPr/>
        </p:nvPicPr>
        <p:blipFill>
          <a:blip r:embed="rId2"/>
          <a:stretch/>
        </p:blipFill>
        <p:spPr>
          <a:xfrm>
            <a:off x="395280" y="1168560"/>
            <a:ext cx="792000" cy="569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248000" y="1974960"/>
            <a:ext cx="457200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1. Reaching international consensus on diagnostic crite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2. Creating adult/pediatric cohorts and bioban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3. Creating novel biology ‘handprints’ by combining molecular, histological,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</a:rPr>
              <a:t>clinical and patient-reported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4. Validating such ‘handprints’ in relation to exacerbations and disease progr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5. Refining the ‘handprints’ by using preclinical and human exacerbation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6. Predicting efficacy of gold-standard and novel interven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7. Refining the diagnostic criteria and pheno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8. Establishing a platform for exchange, education and dissemin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Ontology Management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8AC2-6EEE-4AC2-88DF-5A612A1EB2BE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13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with Clinical Data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142F-912A-49EB-9454-FAAB58877D21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3673440" y="1557360"/>
            <a:ext cx="425304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lectronic Data Captu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668400" y="3759120"/>
            <a:ext cx="423792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Standard Vocabularies /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5069520" y="3008160"/>
            <a:ext cx="14626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C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4638240" y="2306520"/>
            <a:ext cx="232380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CRF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106240" y="4869000"/>
            <a:ext cx="13744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M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4738680" y="5591160"/>
            <a:ext cx="212436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KM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4"/>
          <p:cNvCxnSpPr>
            <a:stCxn id="175" idx="2"/>
            <a:endCxn id="178" idx="0"/>
          </p:cNvCxnSpPr>
          <p:nvPr/>
        </p:nvCxnSpPr>
        <p:spPr>
          <a:xfrm>
            <a:off x="5800320" y="1925640"/>
            <a:ext cx="1080" cy="381600"/>
          </a:xfrm>
          <a:prstGeom prst="straightConnector1">
            <a:avLst/>
          </a:prstGeom>
          <a:ln w="936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Straight Arrow Connector 11"/>
          <p:cNvCxnSpPr>
            <a:stCxn id="178" idx="2"/>
            <a:endCxn id="177" idx="0"/>
          </p:cNvCxnSpPr>
          <p:nvPr/>
        </p:nvCxnSpPr>
        <p:spPr>
          <a:xfrm flipH="1">
            <a:off x="5799960" y="2676240"/>
            <a:ext cx="1080" cy="332280"/>
          </a:xfrm>
          <a:prstGeom prst="straightConnector1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183" name="Straight Connector 14"/>
          <p:cNvSpPr/>
          <p:nvPr/>
        </p:nvSpPr>
        <p:spPr>
          <a:xfrm flipH="1">
            <a:off x="5787720" y="3378240"/>
            <a:ext cx="12600" cy="38088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17"/>
          <p:cNvCxnSpPr>
            <a:stCxn id="176" idx="2"/>
            <a:endCxn id="179" idx="0"/>
          </p:cNvCxnSpPr>
          <p:nvPr/>
        </p:nvCxnSpPr>
        <p:spPr>
          <a:xfrm>
            <a:off x="5787720" y="4127400"/>
            <a:ext cx="6840" cy="742320"/>
          </a:xfrm>
          <a:prstGeom prst="straightConnector1">
            <a:avLst/>
          </a:prstGeom>
          <a:ln w="9360">
            <a:solidFill>
              <a:srgbClr val="1f497d"/>
            </a:solidFill>
            <a:prstDash val="dash"/>
            <a:miter/>
            <a:tailEnd len="med" type="triangle" w="med"/>
          </a:ln>
        </p:spPr>
      </p:cxnSp>
      <p:pic>
        <p:nvPicPr>
          <p:cNvPr id="185" name="Picture 18" descr=""/>
          <p:cNvPicPr/>
          <p:nvPr/>
        </p:nvPicPr>
        <p:blipFill>
          <a:blip r:embed="rId1"/>
          <a:stretch/>
        </p:blipFill>
        <p:spPr>
          <a:xfrm>
            <a:off x="380880" y="2214720"/>
            <a:ext cx="2921040" cy="2187360"/>
          </a:xfrm>
          <a:prstGeom prst="rect">
            <a:avLst/>
          </a:prstGeom>
          <a:ln w="0">
            <a:noFill/>
          </a:ln>
        </p:spPr>
      </p:pic>
      <p:sp>
        <p:nvSpPr>
          <p:cNvPr id="186" name="Left Brace 10245"/>
          <p:cNvSpPr/>
          <p:nvPr/>
        </p:nvSpPr>
        <p:spPr>
          <a:xfrm>
            <a:off x="3222720" y="1700280"/>
            <a:ext cx="760320" cy="3097080"/>
          </a:xfrm>
          <a:custGeom>
            <a:avLst/>
            <a:gdLst>
              <a:gd name="textAreaLeft" fmla="*/ 485640 w 760320"/>
              <a:gd name="textAreaRight" fmla="*/ 760680 w 760320"/>
              <a:gd name="textAreaTop" fmla="*/ 19800 h 3097080"/>
              <a:gd name="textAreaBottom" fmla="*/ 307728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1"/>
                  <a:pt x="10800" y="442"/>
                </a:cubicBezTo>
                <a:lnTo>
                  <a:pt x="10800" y="10358"/>
                </a:lnTo>
                <a:cubicBezTo>
                  <a:pt x="10800" y="10579"/>
                  <a:pt x="5400" y="10800"/>
                  <a:pt x="0" y="10800"/>
                </a:cubicBezTo>
                <a:cubicBezTo>
                  <a:pt x="5400" y="10800"/>
                  <a:pt x="10800" y="11021"/>
                  <a:pt x="10800" y="11242"/>
                </a:cubicBezTo>
                <a:lnTo>
                  <a:pt x="10800" y="21158"/>
                </a:lnTo>
                <a:cubicBezTo>
                  <a:pt x="10800" y="213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Elbow Connector 10247"/>
          <p:cNvCxnSpPr>
            <a:stCxn id="179" idx="1"/>
            <a:endCxn id="185" idx="2"/>
          </p:cNvCxnSpPr>
          <p:nvPr/>
        </p:nvCxnSpPr>
        <p:spPr>
          <a:xfrm rot="10800000">
            <a:off x="1840680" y="4401360"/>
            <a:ext cx="3604320" cy="653400"/>
          </a:xfrm>
          <a:prstGeom prst="bentConnector2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88" name="Straight Arrow Connector 10249"/>
          <p:cNvCxnSpPr>
            <a:stCxn id="179" idx="2"/>
            <a:endCxn id="180" idx="0"/>
          </p:cNvCxnSpPr>
          <p:nvPr/>
        </p:nvCxnSpPr>
        <p:spPr>
          <a:xfrm>
            <a:off x="5794200" y="5238360"/>
            <a:ext cx="7200" cy="353160"/>
          </a:xfrm>
          <a:prstGeom prst="straightConnector1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emantic 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Based on NCBO (BioPortal Ontologies)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eTRIKS Possible focus: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UMLS ( Vocabularies include: CPT®, ICD-10-CM, LOINC®, MeSH®, RxNorm, and SNOMED CT®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TSA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NCBO Human related Phenotype ontologies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Omics ontologies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1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4F8C-0649-4D00-970A-5068B81A0FE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163800" y="115920"/>
            <a:ext cx="93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DISC Data Model</a:t>
            </a: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SDTM : Study Data Tabulation Model 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ADaM : Analysis Data Mode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SEND:  Standard for Exchange of Nonclinical Data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CDASH Clinical Data Acquisition Standards Harmoniz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PR: Protocol Represent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TDM: Study/Trial Design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ODM: Operational Data Mode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LAB:  Laboratory Data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BRIDG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5B12-00CC-4D9E-8171-384365B62B0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Quality assurance of the semantic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All tools used based on open source community based building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ontinuous interfacing with developing community and regular standards updates will ensure quality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WP3 dedicated to ontologies and standards, led by CDISC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Large collaboration with projects across EU/USA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F1E0-A0A6-4772-B094-E6283EB7D92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Standards and terminologies selection proces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1358-973B-442C-8C64-1D75B6C1E34C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893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44000" y="-24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Legacy data for certain projects / studi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Possible Solution: Development of custom ETL procedures.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Diverse EHR  systems in clinics : not a problem now but EHR will be an ideal addtion to CTM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Working closely with projects like EHR4CR/Euroca /Open Phact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Too many standards and mappings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ommitting to some widely adopted systems   (by IMI projects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Cross projects mapping 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Need terminology mapping services  : learning Semantic Web technology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C983-A6C7-4128-9C4A-B09C2DE57F4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217B-871D-452E-8D90-3092D7008B8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55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Project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www.etrik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None yet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ontact information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Email: y.guo@imperial.ac.uk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Website: </a:t>
            </a:r>
            <a:r>
              <a:rPr b="0" lang="fr-F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sg.doc.ic.ac.uk</a:t>
            </a: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90F3-B90E-434A-B1C3-AF24BE4DD00E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Goals &amp; Objectiv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Objective: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rovision of a sustainable KM Platform and Service to support Private/Public Translational Research (TR) in IMI and beyond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Single access point to standardised curated TR study information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26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Scope: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loud Hosting, KM Platform, Data &amp; Service Standards, Analytics, Curation, and Training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otentially support for any IMI Project involving translational research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Budget: €23.98m for 5 years (Oct/2012---Sept/2017)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2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D4EB-C530-49E7-934A-C1B285F8DF90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5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B4BC-87D4-4823-91FF-49E9D977FB8A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www.abscreativegroup.com/multimedia_content/clients/29282500_logo_efpia.jpg"/>
          <p:cNvPicPr/>
          <p:nvPr/>
        </p:nvPicPr>
        <p:blipFill>
          <a:blip r:embed="rId1"/>
          <a:srcRect l="0" t="19973" r="0" b="26676"/>
          <a:stretch/>
        </p:blipFill>
        <p:spPr>
          <a:xfrm>
            <a:off x="5756400" y="1022400"/>
            <a:ext cx="809640" cy="431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655640" y="10717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46a"/>
                </a:solidFill>
                <a:latin typeface="Calibri"/>
                <a:ea typeface="MS PGothic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temple-ais.org/wp-content/uploads/2012/02/AZ_Logo1.jpg"/>
          <p:cNvPicPr/>
          <p:nvPr/>
        </p:nvPicPr>
        <p:blipFill>
          <a:blip r:embed="rId2"/>
          <a:stretch/>
        </p:blipFill>
        <p:spPr>
          <a:xfrm>
            <a:off x="5545080" y="1595520"/>
            <a:ext cx="1604880" cy="41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https://contactus.sanofi-aventis.us/images/corpologo.jpg"/>
          <p:cNvPicPr/>
          <p:nvPr/>
        </p:nvPicPr>
        <p:blipFill>
          <a:blip r:embed="rId3"/>
          <a:stretch/>
        </p:blipFill>
        <p:spPr>
          <a:xfrm>
            <a:off x="5699160" y="2595600"/>
            <a:ext cx="1123920" cy="23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http://patientexperiencenetwork.org/Assets/Images/hotspot_roche.gif.jpg"/>
          <p:cNvPicPr/>
          <p:nvPr/>
        </p:nvPicPr>
        <p:blipFill>
          <a:blip r:embed="rId4"/>
          <a:stretch/>
        </p:blipFill>
        <p:spPr>
          <a:xfrm>
            <a:off x="5965920" y="5511960"/>
            <a:ext cx="627120" cy="325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http://vaccinenewsdaily.com/wp-content/uploads/2013/01/Pfizer.gif"/>
          <p:cNvPicPr/>
          <p:nvPr/>
        </p:nvPicPr>
        <p:blipFill>
          <a:blip r:embed="rId5"/>
          <a:stretch/>
        </p:blipFill>
        <p:spPr>
          <a:xfrm>
            <a:off x="5908680" y="4294080"/>
            <a:ext cx="671400" cy="4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http://www.presseportal.ch/fr/bild/100007499-logo-merck-serono.jpg"/>
          <p:cNvPicPr/>
          <p:nvPr/>
        </p:nvPicPr>
        <p:blipFill>
          <a:blip r:embed="rId6"/>
          <a:stretch/>
        </p:blipFill>
        <p:spPr>
          <a:xfrm>
            <a:off x="5843520" y="3754440"/>
            <a:ext cx="698400" cy="496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http://2.bp.blogspot.com/-GnSrs5HTnZQ/UIe-o507wAI/AAAAAAAAbiE/YV5h17J8d5E/s1600/LundbeckLogo.jpg"/>
          <p:cNvPicPr/>
          <p:nvPr/>
        </p:nvPicPr>
        <p:blipFill>
          <a:blip r:embed="rId7"/>
          <a:stretch/>
        </p:blipFill>
        <p:spPr>
          <a:xfrm>
            <a:off x="5575320" y="4821120"/>
            <a:ext cx="1301760" cy="51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http://t2.gstatic.com/images?q=tbn:ANd9GcSltEeKA4h1RY5-pUxwQNoD9DnXaX5JW2La-6yKbX8WJkAJ95StDJqK1YE"/>
          <p:cNvPicPr/>
          <p:nvPr/>
        </p:nvPicPr>
        <p:blipFill>
          <a:blip r:embed="rId8"/>
          <a:srcRect l="0" t="18986" r="0" b="12285"/>
          <a:stretch/>
        </p:blipFill>
        <p:spPr>
          <a:xfrm>
            <a:off x="5715000" y="2043000"/>
            <a:ext cx="1162080" cy="501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http://www.bse.com.au/wp-content/uploads/2011/12/gsk.jpg"/>
          <p:cNvPicPr/>
          <p:nvPr/>
        </p:nvPicPr>
        <p:blipFill>
          <a:blip r:embed="rId9"/>
          <a:stretch/>
        </p:blipFill>
        <p:spPr>
          <a:xfrm>
            <a:off x="5756400" y="2978280"/>
            <a:ext cx="104760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http://www.jagsreport.com/logos/logo_eli_lilly.jpg"/>
          <p:cNvPicPr/>
          <p:nvPr/>
        </p:nvPicPr>
        <p:blipFill>
          <a:blip r:embed="rId10"/>
          <a:stretch/>
        </p:blipFill>
        <p:spPr>
          <a:xfrm>
            <a:off x="5773680" y="3359160"/>
            <a:ext cx="839880" cy="53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11"/>
          <a:srcRect l="3203" t="27447" r="73402" b="27447"/>
          <a:stretch/>
        </p:blipFill>
        <p:spPr>
          <a:xfrm>
            <a:off x="1743120" y="5675400"/>
            <a:ext cx="934920" cy="25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12"/>
          <a:stretch/>
        </p:blipFill>
        <p:spPr>
          <a:xfrm>
            <a:off x="1962000" y="5340240"/>
            <a:ext cx="554040" cy="319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http://2011.igem.org/wiki/images/1/19/ImperialLogo.png"/>
          <p:cNvPicPr/>
          <p:nvPr/>
        </p:nvPicPr>
        <p:blipFill>
          <a:blip r:embed="rId13"/>
          <a:stretch/>
        </p:blipFill>
        <p:spPr>
          <a:xfrm>
            <a:off x="1668600" y="1819440"/>
            <a:ext cx="1409400" cy="36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0" descr="http://soc.kuleuven.be/ceso/impalla/images/LOGO's/uniLux_logo_5000dpi.jpg"/>
          <p:cNvPicPr/>
          <p:nvPr/>
        </p:nvPicPr>
        <p:blipFill>
          <a:blip r:embed="rId14"/>
          <a:stretch/>
        </p:blipFill>
        <p:spPr>
          <a:xfrm>
            <a:off x="1928880" y="2438280"/>
            <a:ext cx="804960" cy="72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2" descr="http://www.lsce.ipsl.fr/Images/logos/logo_CNRS.png"/>
          <p:cNvPicPr/>
          <p:nvPr/>
        </p:nvPicPr>
        <p:blipFill>
          <a:blip r:embed="rId15"/>
          <a:stretch/>
        </p:blipFill>
        <p:spPr>
          <a:xfrm>
            <a:off x="2090880" y="323208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1187280" y="1623960"/>
            <a:ext cx="2448000" cy="2443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5148360" y="1533600"/>
            <a:ext cx="2160360" cy="4468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1839600" y="43578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46a"/>
                </a:solidFill>
                <a:latin typeface="Calibri"/>
                <a:ea typeface="MS PGothic"/>
              </a:rPr>
              <a:t>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1477800" y="4857840"/>
            <a:ext cx="1511640" cy="111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4" descr="http://www.cdisc.org/stuff/contentmgr/files/0/5a40f4e50f3fc649ccc13a075b17b74c/thumb/idbs_logo.jpg"/>
          <p:cNvPicPr/>
          <p:nvPr/>
        </p:nvPicPr>
        <p:blipFill>
          <a:blip r:embed="rId16"/>
          <a:stretch/>
        </p:blipFill>
        <p:spPr>
          <a:xfrm>
            <a:off x="1920960" y="4884840"/>
            <a:ext cx="693720" cy="41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ETRIKS Deliverable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KM support for IMI (and other PPP) projects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Access to fit-for-purpose, secure, easy-access, standardised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KM services</a:t>
            </a: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 (for ongoing cross-organisation TR study support)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Hosting / installation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Training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Curation workflow software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Data Mgmt software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Single point of access to curated historic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study data on the cloud 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Sustainable, interoperable, collaborative, re-usable, open source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platform</a:t>
            </a: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, based on open, agreed standards, used and contributed to by global research community.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Development of an active TR analytics &amp; informatics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68360" y="57038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R Informatics Standard and Centralized  Data Clou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851280" y="2276640"/>
            <a:ext cx="482436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Analytics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Cur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tandards build and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KM consult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1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: Linking the Two Worl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F9DD-5F8E-4994-B4CB-150F512A5744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37440" cy="4765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1476360" y="56023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ttee on A Framework for Developing a New Taxonomy of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TRIKS Architectur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8" name="Espace réservé du numéro de diapositive 1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D5E1-A0D8-4A78-BC74-50883266DBE4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pied de page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711360" y="1341360"/>
            <a:ext cx="7613640" cy="4549680"/>
            <a:chOff x="711360" y="1341360"/>
            <a:chExt cx="7613640" cy="4549680"/>
          </a:xfrm>
        </p:grpSpPr>
        <p:sp>
          <p:nvSpPr>
            <p:cNvPr id="141" name="AutoShape 3"/>
            <p:cNvSpPr/>
            <p:nvPr/>
          </p:nvSpPr>
          <p:spPr>
            <a:xfrm>
              <a:off x="711360" y="1341360"/>
              <a:ext cx="7607520" cy="45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711360" y="1341360"/>
              <a:ext cx="7613640" cy="45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tangle 7"/>
          <p:cNvSpPr/>
          <p:nvPr/>
        </p:nvSpPr>
        <p:spPr>
          <a:xfrm>
            <a:off x="3203640" y="3500280"/>
            <a:ext cx="4681440" cy="18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Study Data Management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32FF-8AA8-4E41-A963-DF2ED5D6966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539640" y="1366920"/>
            <a:ext cx="72961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Curation: Building Content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FE9F-716B-4C24-9A30-80A4FC1C4A5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71520" y="1268280"/>
            <a:ext cx="840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Data Curation Proces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F05B-4B8D-419A-9F93-D78E49919C7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-108000" y="1989000"/>
            <a:ext cx="3124080" cy="2171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374472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6613560" y="1844640"/>
            <a:ext cx="2386080" cy="3157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6613560" y="1484280"/>
            <a:ext cx="2386080" cy="4537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6732720" y="508464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MART-ba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RIKS Study Data Manage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yg</cp:lastModifiedBy>
  <dcterms:modified xsi:type="dcterms:W3CDTF">2013-01-22T15:30:58Z</dcterms:modified>
  <cp:revision>219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